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E19-385E-47D8-91C8-3DAE9497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3DA-745D-4826-9B95-D83B4F4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F94-AE80-4F32-B9F0-179685D9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5FA-47B0-4000-882D-961B4B11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E2C5-0C5E-458D-9548-36DF8ED8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F47D-0695-4766-AF6F-2756861B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C8BB-38F9-4133-9304-0E0790B3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CE86-44B3-4834-82B0-5544CEFF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7F25-8767-4179-AAFE-85E2F216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5550-4015-40B9-B3F9-CF6ED9C6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C66B-43C5-46BA-BA7F-C5BD324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601-47B6-4DAF-86E4-AECF2326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8694-6704-4A55-B125-674739B6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5A38-31F8-4AA9-AB99-48792E9D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84B0-0899-4060-9B01-2E086350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5E54-FFB4-457A-8829-8130781C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ED3A-A854-4788-87FF-58FF5A14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5350-FBC9-42D5-B26B-20AF1D95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F68F8-F610-4027-AD27-892370C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A58D-663A-4F77-946E-2AB24B6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D815-12C1-4101-BAA3-1F189B87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B038-C6D7-41A1-9B6B-4DF378AD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8A4-AD08-42D0-ABE8-CF9FB035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4096-5FEA-491C-A097-330C1E48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90AD-3329-42C5-91DD-0183E371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4917-3AD2-4C3A-ABE6-DD55EEE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B34C-B120-4ECB-AA9B-15E0221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61E1-0A86-40DE-BD43-990C893B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357C-7DB2-4E8F-9FF6-5DE29D42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C94E-9E15-4273-9F77-272471E6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DA41-F372-4F04-A4F2-CA920953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EB24-004B-442C-8E47-6A538863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6E3B-8490-482B-B9F8-3E971D40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FED-2709-4C7F-8099-3665DEE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B4B6-175A-4D2F-88DF-18E47D99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39A5-FC9F-4E3E-B05B-80ED2B7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284A-62F1-4FE9-B3AC-8A88FE9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F837-BDCE-456C-9891-3B306BF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21AB-F41A-49EA-BB44-D40A3AE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A31C-EA91-4872-9958-8F0A3537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99BD-28EC-4A08-886B-24FB3540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9A45-3569-4607-B005-F35A2372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CAFC-A0FA-4DF9-BA6E-3131C875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AFF8-DE12-42A3-9B2F-731E4A50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BB1-6CAF-4EBA-A196-93BCEE41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2ABC-FF8C-466B-8398-F55F2332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919A-09A3-4E56-B568-34A98228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642EA-A1B1-45C6-8DA7-14E414F1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95BA-95DB-41DF-946F-57FD7B66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92F15-D240-410D-B92D-CFDC60ED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CB28-C2A6-4E7F-B55B-F0527C53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7109-A11C-4020-A812-5C63308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4925-7C19-454E-8AC9-12CA22E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E222-6681-4352-A18F-CDDB141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471C2-3BA4-4E1E-AC08-0260DA19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F63-2321-4F41-A819-78400720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4BED-D4F8-444B-BA3B-1B3F98AF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D328-435C-4433-A8D8-9E14B5C0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2B9B-831C-48BD-93C6-2E0EBB4E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9D375-8559-4972-8D42-51267586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F22BD-F7C3-4B83-8014-CDDDC09B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AE904-6657-4D6A-B9C8-6B329072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E37D4-6F9B-431F-82BB-64EC6F57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00E1-0CC3-4148-8CC9-37723D1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46503-F94B-4504-979B-E9213B17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DB62A-A80E-447B-A29B-2733891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852-BB23-41F3-A933-A01B32B3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FE609-C0F1-46E2-A879-68E902EA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289D7-783C-48DD-9CED-095551D9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A119-92A2-44E5-A2BA-3FEB8D4D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9CBFA-A92F-4C2E-9C44-B694EB1E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9D1CE-D0E7-48F4-BA1D-6A05A0A3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46457-7BF6-44EE-AC3A-545C31BF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50C17-BD53-4986-9410-A78F7B6F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542F8-7069-40AD-A0FB-67DE441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7677-C2FC-4857-A995-9483F294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9CA5-2C1B-41A2-B265-B58B17D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D42-4A31-451B-8941-A7721B2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7008-3A7D-4072-9479-B2F18954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B8B4D-6391-4E8A-AAB7-031EF24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E4BAE-D990-4CEA-9F29-F36258B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59D22-0B51-49E3-9466-42893AE2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CFA3F-C7CC-4E4D-8E83-8909E212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1E9-BB7D-446E-8A94-54987158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822FF-7B4A-4227-A150-3CE7B1E6B41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62286-B3A8-4C8E-85F2-8F835009F54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D2512-C8C2-43AC-BA7F-8C47D595AFDF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C2088-5CAF-45D5-A59B-3CA44CF40D5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BFF5B-F01C-4818-99A7-F8A8366B0CAC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A6174-C44E-44F6-B508-4C20380BE5B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BF506-E3D3-4BD4-94CF-10EDEDEF1E7F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AB396-3AC5-471D-9D7A-BD5732A0FC49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A4695-36DE-4310-8BCD-05A07A62C125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38940-4A22-430A-A5FE-00201D4C8FF7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84894-AB03-4FB3-A8A2-8C278EBC619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CBDC8-B1CD-426A-B364-C041349C359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6AEAB-EFA9-437A-B86F-9002601F3F6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0B2AB-C662-447A-9A8B-92D38B9403E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94248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62626"/>
                </a:solidFill>
                <a:latin typeface="Calibri Light"/>
              </a:rPr>
              <a:t>CASE DISCUSSION 3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5438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DR. KONG WEI YE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PUSAT PERUBATAN UNIVERSITI KEBANGSAAN MALAYSIA, KUALA LUMPU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DR. ILIZA IDRI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KLINIK KESIHATAN AMPANGAN, NEGERI SEMBILA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6003A-C177-4E71-8E15-24F43C4C413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21880" y="170028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 60-year-old female is being followed up by Klinik Kesihatan for her long standing diabetes mellitus &amp; hypertension (HbA1C 9.0%, BP 160/90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he is on perindopril 4 mg ON, amlodipine 10mg OD, metformin 1000 mg BD, gliclazide 160 mg BD &amp; simvastatin 40mg 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er trend of serum creatinine &amp; proteinuria is as follow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61B95-AE92-4A90-9601-20493F0A38E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4581360"/>
          <a:ext cx="7254720" cy="2013120"/>
        </p:xfrm>
        <a:graphic>
          <a:graphicData uri="http://schemas.openxmlformats.org/drawingml/2006/table">
            <a:tbl>
              <a:tblPr/>
              <a:tblGrid>
                <a:gridCol w="1450800"/>
                <a:gridCol w="1451160"/>
                <a:gridCol w="1450800"/>
                <a:gridCol w="1451160"/>
                <a:gridCol w="1450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um creat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hour urine 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Would you refer her to a nephrologis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DF522-47F2-407D-8B6F-30C75A700F5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1880" y="170028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in doubt, refer!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few red flags in this case (instead of a usual case of CKD/DKD progression):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um Cr is increasing or eGFR is decreasing more than the expected range (expected decline of eGFR </a:t>
            </a: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&lt;2 ml/min/1.73 m</a:t>
            </a:r>
            <a:r>
              <a:rPr b="0" lang="en-MY" sz="2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per yea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Is there a second renal pathology besides DKD? (i.e. Does the patient needs a renal biopsy?)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inions about medication dosing/safety in progressing renal fail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o stop ACEi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o stop metformin, etc.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847D1-281B-43CB-B025-A10E4EF65AF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700280"/>
            <a:ext cx="79264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iming of referral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“hard &amp; fast” rul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.g. A DM patient with creatinine of 150 but proteinuria 4 g/ 24 hour needs earlier referral than an NSAIDs nephropathy patient with creatinine of 200 but proteinuria 1 g/24 hour &amp; already stopped taking NSAID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phrologist need to provide feedback to the referring doctors (memo, calls if necessary, writing on patient’s notebook etc.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.g. when to stop metformin, etc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else can the primary care doctor help to monitor/ manage?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B23CA-25CD-40FE-BC39-F490AFBCF02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68-year-old male is being followed up by Klinik Kesihatan for his stable CKD. His baseline serum creatinine is around 150 μmol/L for the past 2 year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 is now complaining of urinary hesitancy, weak stream while urinating &amp; sense of incomplete bladder emptying, which have worsened over the past 1 month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serum creatinine is now markedly elevated at 850 μmol/L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32D61-CC8D-424D-8906-535F71E521B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do you think has caused his severe acute on chronic renal fail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ould you refer him to a nephrologist?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79DA5-00E6-489D-8E9D-C3415A3770E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ed to consider obstructive uropathy if patient’s history is suggestive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index of suspic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consider in patients with unexplained AKI (or AKI on CKD), history of gross haematuria/renal stones/renal colic/pelvic tumour/radiation therapy, et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5C4C5-FCB9-4085-9EC1-F6EF2B86E77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be considered a medical emergency &amp;  referred immediately to urology service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Or concurrent referral to both urology &amp; nephrology servi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 any unnecessary dela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elay in relieving the obstruction will result in permanent renal damag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F9E45-FD05-406F-BDD9-32660570F97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250FD-5D14-4BDA-9B12-26C2E49DE55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KD has emerged as a global public health problem because of the increasing number of patients with CKD, risk of progression to ESRD, &amp; high morbidity &amp; mortalit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KD patients are seen in the primary care clinics during the early stages of thei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DD8EB-3F47-4644-B824-AE458672DA6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important to identify which patients need to be referred for nephrology servi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ing of referral differs according to the suspected diagnosis of the kidney problem &amp; its expected progress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way communication between primary care doctors &amp; nephrologists is paramount in ensuring the best care for the patient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DF9C5-1E6D-4F94-BB11-FFBF039B953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39640" y="1846080"/>
            <a:ext cx="81424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tudies have demonstrated that early referral of patients with more serious CKD to  nephrology care is associated with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ates of kidney failure declin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need for &amp;/or duration of hospitalis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likelihood of permanent dialysis access created prior to dialysis onse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patient morbidity &amp; mortal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higher Hb levels, etc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3. Kidney Health Australia. When to refer for specialist renal care. Melbourne: Kidney Health Australia; 201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A213F-83A0-4A36-AA2F-CFAFC7CBC06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6-year-old male, who has been well-managed at Klinik Kesihatan for his diabetes mellitus &amp; hypertension, is noted to have an increasing trend of serum creatinine over the past 2 month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latest HbA1C is 6.8%, blood pressure 136/82, 24-hour urinary protein is 0.4 gram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creatinine trend is as follow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622E5-09B7-4A73-B738-33AEC8846D6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332000" y="5013360"/>
          <a:ext cx="6553080" cy="15415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1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pon review at the nephrology clinic, he admits to have taken naproxen 1 tab BD-TDS  for the past 2 weeks for his lower back pain, as well as consuming Shxxxxe supplement to “cleanse his blood” for the past 3 month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B1FCE-9684-4622-A023-F350477E2D4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s this AKI or progression of CKD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causes i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nvestigations would you do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B3CD4-70D1-4DCF-B781-59F638BABF2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853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ed to differentiate AKI vs progression of CKD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ession of CKD will usually show a slow but steady trend of progression rather than a steep decline of renal fun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f AKI likely, might need to start investigations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US, other relevant blood/urine tests, review medication list, med-med interaction, OTC medications (particularly NSAIDs), traditional meds &amp; supplements et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A24FB-B58F-4E90-B387-DC998525C09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87280"/>
            <a:ext cx="7848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all the nephrologist directly to refer case (if very severe or rapidly progressing AKI) instead of writing referral letter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any unnecessary dela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ht “miss the boat” due to logistical delay if we’re dealing with truly emergent AKI (e.g. RPGN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AA2F1-92AF-4E0B-957D-4102E19FACA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1-15T04:04:17Z</dcterms:modified>
  <cp:revision>127</cp:revision>
  <dc:subject/>
  <dc:title>SCREENING &amp; DIAGNOSIS</dc:title>
</cp:coreProperties>
</file>